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29312-DACD-411E-8D0C-D9241B07323C}" type="slidenum"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geometric shape with 20 fa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embling a coiled sp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t may even have a different shap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,  Plants,  Bacteria (bacteriophag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named by the disease they cau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the organism they in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acks only 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on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ype of cells - Attacks only cells with one type of re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ack cells of one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acks several related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bout ½ to 1/100 the size of bacter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seen with electron microscope, but not light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ontain DNA and/or RNA str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ontain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an reproduce, BUT only inside a host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able to mu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do NOT respire/ no metabo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do NOT g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do NOT respond to stimu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 mentioned befor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produces-- but only with help of host ce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es not eat, grow, respire, use ener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pe fits function well because there are only two parts to complete the entering of a host cell and reprodu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e capsid and is made of protein molecules called 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capsomer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iruses also have an outer lipid layer they pick up from their host.  This is called 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RNA or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le or Double Str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everal genes to several hundred of gen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Naked or envelop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C787-898C-4A58-B34C-ED8219D16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B92B-6929-4DD9-AD7A-598C1875A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216E-9C40-4FC3-8F9A-69F5ECF0A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510E-2A31-4569-8E23-F8606719E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A57C-F7FC-4E37-B7C3-77D1FF888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1C17-7B78-45B0-8570-DE265873F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3228-2983-4513-ACC2-E39EE043E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9DEA-A237-4526-8E21-E6D2C1316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26D5-4E0B-4697-A0BF-7E32D603E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AF90-BB01-45CC-8A13-7F467111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2B29-B360-4EC6-AB97-64248137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008A-F552-48C9-89DC-8320BF95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5D838-7634-42B1-8FDC-6543DF9625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7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Times New Roman"/>
              </a:rPr>
              <a:t>Viruses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200400" cy="4038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943600" y="0"/>
            <a:ext cx="3200400" cy="4038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80880" y="4419720"/>
            <a:ext cx="8305920" cy="24382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racteristics, Structures, Types, and Re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848720" cy="64008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477120" y="3962160"/>
            <a:ext cx="1752480" cy="28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of virus shapes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at makes these viruses different?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666880" y="609480"/>
            <a:ext cx="6477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3.  By the shape of the viru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1946520" cy="19810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114440" y="160020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termined by its caps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icosahed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heli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905120" y="2438280"/>
            <a:ext cx="2057400" cy="18702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04920" y="4440240"/>
            <a:ext cx="236196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iral Classification (continued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5029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.   by who they inf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st Cell Specifi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y specific--Three lev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019920" y="2057400"/>
            <a:ext cx="2603520" cy="3600360"/>
            <a:chOff x="6019920" y="2057400"/>
            <a:chExt cx="2603520" cy="360036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6019920" y="2057400"/>
              <a:ext cx="2603520" cy="36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 txBox="1"/>
            <p:nvPr/>
          </p:nvSpPr>
          <p:spPr>
            <a:xfrm>
              <a:off x="6019920" y="2057400"/>
              <a:ext cx="2603520" cy="360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iral Classific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 By how they inf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NA (2 ways),  RNA ,  Retroviru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rcRect l="52886" t="0" r="4597" b="8612"/>
          <a:stretch/>
        </p:blipFill>
        <p:spPr>
          <a:xfrm>
            <a:off x="5757840" y="2971800"/>
            <a:ext cx="3386160" cy="38862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Viral Typ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876312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NA viru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goes) to RN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oins with host’s DNA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NA viru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goes) straight to protein with use of host’s ribosomes (in the cytoplas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troviru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se enzyme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reverse transcriptase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verts viral RNA to DNA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nd new DNA can becom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rt of host DNA or go to 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11430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DNA →R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71800" y="38862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RNA →DNA→R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17524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DNA→ integrated DNA→R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fe cycle of a viru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cess of virus re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ysogenic Cyc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ytic cycl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LYSOGENIC CYC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ysogenic cycle – incorporates DNA into host’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tac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ject DN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orporate DNA into host cell’s chromosome (prophag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licate as host cell replic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 some point may disattach and complete the lytic cyc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iral Replication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1. 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Attach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464832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irus comes in contact with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receptor sites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on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urface of host cell (specific host cell)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irus attaches to cell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0552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iral Replication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2. 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Inject DN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4495680"/>
            <a:ext cx="80010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ject D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ked virus injects nucleic acid into host 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eloped viruses join with cell membra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3886200" cy="20574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00600" y="2057400"/>
            <a:ext cx="426708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iral Replication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. 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Replic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4266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ral DNA (or RNA) directs protein synthe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ral nucleic acid causes host cell to produce parts of vir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2670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irus Characterist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almost) Smallest biological partic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only exist by infecting host ce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14001" t="43432" r="14001" b="6004"/>
          <a:stretch/>
        </p:blipFill>
        <p:spPr>
          <a:xfrm>
            <a:off x="4572000" y="2286000"/>
            <a:ext cx="403848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iral Replication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4. 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Assembl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4800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cleic acid are inserted into caps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viruses are ready to be relea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62320" y="2438280"/>
            <a:ext cx="4572000" cy="18288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2590920"/>
            <a:ext cx="761760" cy="761760"/>
          </a:xfrm>
          <a:prstGeom prst="octagon">
            <a:avLst>
              <a:gd name="adj" fmla="val 2928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2590920"/>
            <a:ext cx="761760" cy="761760"/>
          </a:xfrm>
          <a:prstGeom prst="octagon">
            <a:avLst>
              <a:gd name="adj" fmla="val 2928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52880" y="3429000"/>
            <a:ext cx="762120" cy="762120"/>
          </a:xfrm>
          <a:prstGeom prst="octagon">
            <a:avLst>
              <a:gd name="adj" fmla="val 2928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2666880"/>
            <a:ext cx="738000" cy="541440"/>
          </a:xfrm>
          <a:custGeom>
            <a:avLst/>
            <a:gdLst/>
            <a:ahLst/>
            <a:rect l="l" t="t" r="r" b="b"/>
            <a:pathLst>
              <a:path w="465" h="341">
                <a:moveTo>
                  <a:pt x="133" y="70"/>
                </a:moveTo>
                <a:cubicBezTo>
                  <a:pt x="164" y="65"/>
                  <a:pt x="292" y="39"/>
                  <a:pt x="310" y="70"/>
                </a:cubicBezTo>
                <a:cubicBezTo>
                  <a:pt x="335" y="114"/>
                  <a:pt x="302" y="172"/>
                  <a:pt x="298" y="223"/>
                </a:cubicBezTo>
                <a:cubicBezTo>
                  <a:pt x="204" y="194"/>
                  <a:pt x="193" y="204"/>
                  <a:pt x="74" y="223"/>
                </a:cubicBezTo>
                <a:cubicBezTo>
                  <a:pt x="78" y="243"/>
                  <a:pt x="73" y="267"/>
                  <a:pt x="86" y="282"/>
                </a:cubicBezTo>
                <a:cubicBezTo>
                  <a:pt x="96" y="294"/>
                  <a:pt x="117" y="292"/>
                  <a:pt x="133" y="294"/>
                </a:cubicBezTo>
                <a:cubicBezTo>
                  <a:pt x="188" y="300"/>
                  <a:pt x="243" y="302"/>
                  <a:pt x="298" y="306"/>
                </a:cubicBezTo>
                <a:cubicBezTo>
                  <a:pt x="341" y="298"/>
                  <a:pt x="404" y="319"/>
                  <a:pt x="427" y="282"/>
                </a:cubicBezTo>
                <a:cubicBezTo>
                  <a:pt x="465" y="221"/>
                  <a:pt x="315" y="205"/>
                  <a:pt x="298" y="200"/>
                </a:cubicBezTo>
                <a:cubicBezTo>
                  <a:pt x="143" y="157"/>
                  <a:pt x="325" y="183"/>
                  <a:pt x="74" y="165"/>
                </a:cubicBezTo>
                <a:cubicBezTo>
                  <a:pt x="100" y="148"/>
                  <a:pt x="118" y="121"/>
                  <a:pt x="145" y="106"/>
                </a:cubicBezTo>
                <a:cubicBezTo>
                  <a:pt x="169" y="93"/>
                  <a:pt x="232" y="78"/>
                  <a:pt x="263" y="70"/>
                </a:cubicBezTo>
                <a:cubicBezTo>
                  <a:pt x="282" y="74"/>
                  <a:pt x="304" y="72"/>
                  <a:pt x="321" y="82"/>
                </a:cubicBezTo>
                <a:cubicBezTo>
                  <a:pt x="333" y="89"/>
                  <a:pt x="335" y="108"/>
                  <a:pt x="345" y="118"/>
                </a:cubicBezTo>
                <a:cubicBezTo>
                  <a:pt x="371" y="144"/>
                  <a:pt x="392" y="144"/>
                  <a:pt x="427" y="153"/>
                </a:cubicBezTo>
                <a:cubicBezTo>
                  <a:pt x="431" y="165"/>
                  <a:pt x="439" y="176"/>
                  <a:pt x="439" y="188"/>
                </a:cubicBezTo>
                <a:cubicBezTo>
                  <a:pt x="439" y="224"/>
                  <a:pt x="448" y="266"/>
                  <a:pt x="427" y="294"/>
                </a:cubicBezTo>
                <a:cubicBezTo>
                  <a:pt x="402" y="327"/>
                  <a:pt x="273" y="337"/>
                  <a:pt x="239" y="341"/>
                </a:cubicBezTo>
                <a:cubicBezTo>
                  <a:pt x="223" y="337"/>
                  <a:pt x="205" y="339"/>
                  <a:pt x="192" y="329"/>
                </a:cubicBezTo>
                <a:cubicBezTo>
                  <a:pt x="182" y="321"/>
                  <a:pt x="180" y="306"/>
                  <a:pt x="180" y="294"/>
                </a:cubicBezTo>
                <a:cubicBezTo>
                  <a:pt x="180" y="167"/>
                  <a:pt x="179" y="180"/>
                  <a:pt x="204" y="106"/>
                </a:cubicBezTo>
                <a:cubicBezTo>
                  <a:pt x="144" y="65"/>
                  <a:pt x="82" y="83"/>
                  <a:pt x="16" y="106"/>
                </a:cubicBezTo>
                <a:cubicBezTo>
                  <a:pt x="12" y="118"/>
                  <a:pt x="0" y="130"/>
                  <a:pt x="4" y="141"/>
                </a:cubicBezTo>
                <a:cubicBezTo>
                  <a:pt x="21" y="184"/>
                  <a:pt x="215" y="188"/>
                  <a:pt x="216" y="188"/>
                </a:cubicBezTo>
                <a:cubicBezTo>
                  <a:pt x="220" y="172"/>
                  <a:pt x="227" y="157"/>
                  <a:pt x="227" y="141"/>
                </a:cubicBezTo>
                <a:cubicBezTo>
                  <a:pt x="227" y="77"/>
                  <a:pt x="190" y="103"/>
                  <a:pt x="251" y="82"/>
                </a:cubicBezTo>
                <a:cubicBezTo>
                  <a:pt x="259" y="70"/>
                  <a:pt x="272" y="61"/>
                  <a:pt x="274" y="47"/>
                </a:cubicBezTo>
                <a:cubicBezTo>
                  <a:pt x="282" y="1"/>
                  <a:pt x="233" y="0"/>
                  <a:pt x="204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2666880"/>
            <a:ext cx="738000" cy="541440"/>
          </a:xfrm>
          <a:custGeom>
            <a:avLst/>
            <a:gdLst/>
            <a:ahLst/>
            <a:rect l="l" t="t" r="r" b="b"/>
            <a:pathLst>
              <a:path w="465" h="341">
                <a:moveTo>
                  <a:pt x="133" y="70"/>
                </a:moveTo>
                <a:cubicBezTo>
                  <a:pt x="164" y="65"/>
                  <a:pt x="292" y="39"/>
                  <a:pt x="310" y="70"/>
                </a:cubicBezTo>
                <a:cubicBezTo>
                  <a:pt x="335" y="114"/>
                  <a:pt x="302" y="172"/>
                  <a:pt x="298" y="223"/>
                </a:cubicBezTo>
                <a:cubicBezTo>
                  <a:pt x="204" y="194"/>
                  <a:pt x="193" y="204"/>
                  <a:pt x="74" y="223"/>
                </a:cubicBezTo>
                <a:cubicBezTo>
                  <a:pt x="78" y="243"/>
                  <a:pt x="73" y="267"/>
                  <a:pt x="86" y="282"/>
                </a:cubicBezTo>
                <a:cubicBezTo>
                  <a:pt x="96" y="294"/>
                  <a:pt x="117" y="292"/>
                  <a:pt x="133" y="294"/>
                </a:cubicBezTo>
                <a:cubicBezTo>
                  <a:pt x="188" y="300"/>
                  <a:pt x="243" y="302"/>
                  <a:pt x="298" y="306"/>
                </a:cubicBezTo>
                <a:cubicBezTo>
                  <a:pt x="341" y="298"/>
                  <a:pt x="404" y="319"/>
                  <a:pt x="427" y="282"/>
                </a:cubicBezTo>
                <a:cubicBezTo>
                  <a:pt x="465" y="221"/>
                  <a:pt x="315" y="205"/>
                  <a:pt x="298" y="200"/>
                </a:cubicBezTo>
                <a:cubicBezTo>
                  <a:pt x="143" y="157"/>
                  <a:pt x="325" y="183"/>
                  <a:pt x="74" y="165"/>
                </a:cubicBezTo>
                <a:cubicBezTo>
                  <a:pt x="100" y="148"/>
                  <a:pt x="118" y="121"/>
                  <a:pt x="145" y="106"/>
                </a:cubicBezTo>
                <a:cubicBezTo>
                  <a:pt x="169" y="93"/>
                  <a:pt x="232" y="78"/>
                  <a:pt x="263" y="70"/>
                </a:cubicBezTo>
                <a:cubicBezTo>
                  <a:pt x="282" y="74"/>
                  <a:pt x="304" y="72"/>
                  <a:pt x="321" y="82"/>
                </a:cubicBezTo>
                <a:cubicBezTo>
                  <a:pt x="333" y="89"/>
                  <a:pt x="335" y="108"/>
                  <a:pt x="345" y="118"/>
                </a:cubicBezTo>
                <a:cubicBezTo>
                  <a:pt x="371" y="144"/>
                  <a:pt x="392" y="144"/>
                  <a:pt x="427" y="153"/>
                </a:cubicBezTo>
                <a:cubicBezTo>
                  <a:pt x="431" y="165"/>
                  <a:pt x="439" y="176"/>
                  <a:pt x="439" y="188"/>
                </a:cubicBezTo>
                <a:cubicBezTo>
                  <a:pt x="439" y="224"/>
                  <a:pt x="448" y="266"/>
                  <a:pt x="427" y="294"/>
                </a:cubicBezTo>
                <a:cubicBezTo>
                  <a:pt x="402" y="327"/>
                  <a:pt x="273" y="337"/>
                  <a:pt x="239" y="341"/>
                </a:cubicBezTo>
                <a:cubicBezTo>
                  <a:pt x="223" y="337"/>
                  <a:pt x="205" y="339"/>
                  <a:pt x="192" y="329"/>
                </a:cubicBezTo>
                <a:cubicBezTo>
                  <a:pt x="182" y="321"/>
                  <a:pt x="180" y="306"/>
                  <a:pt x="180" y="294"/>
                </a:cubicBezTo>
                <a:cubicBezTo>
                  <a:pt x="180" y="167"/>
                  <a:pt x="179" y="180"/>
                  <a:pt x="204" y="106"/>
                </a:cubicBezTo>
                <a:cubicBezTo>
                  <a:pt x="144" y="65"/>
                  <a:pt x="82" y="83"/>
                  <a:pt x="16" y="106"/>
                </a:cubicBezTo>
                <a:cubicBezTo>
                  <a:pt x="12" y="118"/>
                  <a:pt x="0" y="130"/>
                  <a:pt x="4" y="141"/>
                </a:cubicBezTo>
                <a:cubicBezTo>
                  <a:pt x="21" y="184"/>
                  <a:pt x="215" y="188"/>
                  <a:pt x="216" y="188"/>
                </a:cubicBezTo>
                <a:cubicBezTo>
                  <a:pt x="220" y="172"/>
                  <a:pt x="227" y="157"/>
                  <a:pt x="227" y="141"/>
                </a:cubicBezTo>
                <a:cubicBezTo>
                  <a:pt x="227" y="77"/>
                  <a:pt x="190" y="103"/>
                  <a:pt x="251" y="82"/>
                </a:cubicBezTo>
                <a:cubicBezTo>
                  <a:pt x="259" y="70"/>
                  <a:pt x="272" y="61"/>
                  <a:pt x="274" y="47"/>
                </a:cubicBezTo>
                <a:cubicBezTo>
                  <a:pt x="282" y="1"/>
                  <a:pt x="233" y="0"/>
                  <a:pt x="204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43200" y="2819520"/>
            <a:ext cx="1371600" cy="1143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952880" y="3505320"/>
            <a:ext cx="738360" cy="541080"/>
          </a:xfrm>
          <a:custGeom>
            <a:avLst/>
            <a:gdLst/>
            <a:ahLst/>
            <a:rect l="l" t="t" r="r" b="b"/>
            <a:pathLst>
              <a:path w="465" h="341">
                <a:moveTo>
                  <a:pt x="133" y="70"/>
                </a:moveTo>
                <a:cubicBezTo>
                  <a:pt x="164" y="65"/>
                  <a:pt x="292" y="39"/>
                  <a:pt x="310" y="70"/>
                </a:cubicBezTo>
                <a:cubicBezTo>
                  <a:pt x="335" y="114"/>
                  <a:pt x="302" y="172"/>
                  <a:pt x="298" y="223"/>
                </a:cubicBezTo>
                <a:cubicBezTo>
                  <a:pt x="204" y="194"/>
                  <a:pt x="193" y="204"/>
                  <a:pt x="74" y="223"/>
                </a:cubicBezTo>
                <a:cubicBezTo>
                  <a:pt x="78" y="243"/>
                  <a:pt x="73" y="267"/>
                  <a:pt x="86" y="282"/>
                </a:cubicBezTo>
                <a:cubicBezTo>
                  <a:pt x="96" y="294"/>
                  <a:pt x="117" y="292"/>
                  <a:pt x="133" y="294"/>
                </a:cubicBezTo>
                <a:cubicBezTo>
                  <a:pt x="188" y="300"/>
                  <a:pt x="243" y="302"/>
                  <a:pt x="298" y="306"/>
                </a:cubicBezTo>
                <a:cubicBezTo>
                  <a:pt x="341" y="298"/>
                  <a:pt x="404" y="319"/>
                  <a:pt x="427" y="282"/>
                </a:cubicBezTo>
                <a:cubicBezTo>
                  <a:pt x="465" y="221"/>
                  <a:pt x="315" y="205"/>
                  <a:pt x="298" y="200"/>
                </a:cubicBezTo>
                <a:cubicBezTo>
                  <a:pt x="143" y="157"/>
                  <a:pt x="325" y="183"/>
                  <a:pt x="74" y="165"/>
                </a:cubicBezTo>
                <a:cubicBezTo>
                  <a:pt x="100" y="148"/>
                  <a:pt x="118" y="121"/>
                  <a:pt x="145" y="106"/>
                </a:cubicBezTo>
                <a:cubicBezTo>
                  <a:pt x="169" y="93"/>
                  <a:pt x="232" y="78"/>
                  <a:pt x="263" y="70"/>
                </a:cubicBezTo>
                <a:cubicBezTo>
                  <a:pt x="282" y="74"/>
                  <a:pt x="304" y="72"/>
                  <a:pt x="321" y="82"/>
                </a:cubicBezTo>
                <a:cubicBezTo>
                  <a:pt x="333" y="89"/>
                  <a:pt x="335" y="108"/>
                  <a:pt x="345" y="118"/>
                </a:cubicBezTo>
                <a:cubicBezTo>
                  <a:pt x="371" y="144"/>
                  <a:pt x="392" y="144"/>
                  <a:pt x="427" y="153"/>
                </a:cubicBezTo>
                <a:cubicBezTo>
                  <a:pt x="431" y="165"/>
                  <a:pt x="439" y="176"/>
                  <a:pt x="439" y="188"/>
                </a:cubicBezTo>
                <a:cubicBezTo>
                  <a:pt x="439" y="224"/>
                  <a:pt x="448" y="266"/>
                  <a:pt x="427" y="294"/>
                </a:cubicBezTo>
                <a:cubicBezTo>
                  <a:pt x="402" y="327"/>
                  <a:pt x="273" y="337"/>
                  <a:pt x="239" y="341"/>
                </a:cubicBezTo>
                <a:cubicBezTo>
                  <a:pt x="223" y="337"/>
                  <a:pt x="205" y="339"/>
                  <a:pt x="192" y="329"/>
                </a:cubicBezTo>
                <a:cubicBezTo>
                  <a:pt x="182" y="321"/>
                  <a:pt x="180" y="306"/>
                  <a:pt x="180" y="294"/>
                </a:cubicBezTo>
                <a:cubicBezTo>
                  <a:pt x="180" y="167"/>
                  <a:pt x="179" y="180"/>
                  <a:pt x="204" y="106"/>
                </a:cubicBezTo>
                <a:cubicBezTo>
                  <a:pt x="144" y="65"/>
                  <a:pt x="82" y="83"/>
                  <a:pt x="16" y="106"/>
                </a:cubicBezTo>
                <a:cubicBezTo>
                  <a:pt x="12" y="118"/>
                  <a:pt x="0" y="130"/>
                  <a:pt x="4" y="141"/>
                </a:cubicBezTo>
                <a:cubicBezTo>
                  <a:pt x="21" y="184"/>
                  <a:pt x="215" y="188"/>
                  <a:pt x="216" y="188"/>
                </a:cubicBezTo>
                <a:cubicBezTo>
                  <a:pt x="220" y="172"/>
                  <a:pt x="227" y="157"/>
                  <a:pt x="227" y="141"/>
                </a:cubicBezTo>
                <a:cubicBezTo>
                  <a:pt x="227" y="77"/>
                  <a:pt x="190" y="103"/>
                  <a:pt x="251" y="82"/>
                </a:cubicBezTo>
                <a:cubicBezTo>
                  <a:pt x="259" y="70"/>
                  <a:pt x="272" y="61"/>
                  <a:pt x="274" y="47"/>
                </a:cubicBezTo>
                <a:cubicBezTo>
                  <a:pt x="282" y="1"/>
                  <a:pt x="233" y="0"/>
                  <a:pt x="204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14600" y="2971800"/>
            <a:ext cx="762120" cy="762120"/>
          </a:xfrm>
          <a:prstGeom prst="octagon">
            <a:avLst>
              <a:gd name="adj" fmla="val 2928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14600" y="3048120"/>
            <a:ext cx="738360" cy="541080"/>
          </a:xfrm>
          <a:custGeom>
            <a:avLst/>
            <a:gdLst/>
            <a:ahLst/>
            <a:rect l="l" t="t" r="r" b="b"/>
            <a:pathLst>
              <a:path w="465" h="341">
                <a:moveTo>
                  <a:pt x="133" y="70"/>
                </a:moveTo>
                <a:cubicBezTo>
                  <a:pt x="164" y="65"/>
                  <a:pt x="292" y="39"/>
                  <a:pt x="310" y="70"/>
                </a:cubicBezTo>
                <a:cubicBezTo>
                  <a:pt x="335" y="114"/>
                  <a:pt x="302" y="172"/>
                  <a:pt x="298" y="223"/>
                </a:cubicBezTo>
                <a:cubicBezTo>
                  <a:pt x="204" y="194"/>
                  <a:pt x="193" y="204"/>
                  <a:pt x="74" y="223"/>
                </a:cubicBezTo>
                <a:cubicBezTo>
                  <a:pt x="78" y="243"/>
                  <a:pt x="73" y="267"/>
                  <a:pt x="86" y="282"/>
                </a:cubicBezTo>
                <a:cubicBezTo>
                  <a:pt x="96" y="294"/>
                  <a:pt x="117" y="292"/>
                  <a:pt x="133" y="294"/>
                </a:cubicBezTo>
                <a:cubicBezTo>
                  <a:pt x="188" y="300"/>
                  <a:pt x="243" y="302"/>
                  <a:pt x="298" y="306"/>
                </a:cubicBezTo>
                <a:cubicBezTo>
                  <a:pt x="341" y="298"/>
                  <a:pt x="404" y="319"/>
                  <a:pt x="427" y="282"/>
                </a:cubicBezTo>
                <a:cubicBezTo>
                  <a:pt x="465" y="221"/>
                  <a:pt x="315" y="205"/>
                  <a:pt x="298" y="200"/>
                </a:cubicBezTo>
                <a:cubicBezTo>
                  <a:pt x="143" y="157"/>
                  <a:pt x="325" y="183"/>
                  <a:pt x="74" y="165"/>
                </a:cubicBezTo>
                <a:cubicBezTo>
                  <a:pt x="100" y="148"/>
                  <a:pt x="118" y="121"/>
                  <a:pt x="145" y="106"/>
                </a:cubicBezTo>
                <a:cubicBezTo>
                  <a:pt x="169" y="93"/>
                  <a:pt x="232" y="78"/>
                  <a:pt x="263" y="70"/>
                </a:cubicBezTo>
                <a:cubicBezTo>
                  <a:pt x="282" y="74"/>
                  <a:pt x="304" y="72"/>
                  <a:pt x="321" y="82"/>
                </a:cubicBezTo>
                <a:cubicBezTo>
                  <a:pt x="333" y="89"/>
                  <a:pt x="335" y="108"/>
                  <a:pt x="345" y="118"/>
                </a:cubicBezTo>
                <a:cubicBezTo>
                  <a:pt x="371" y="144"/>
                  <a:pt x="392" y="144"/>
                  <a:pt x="427" y="153"/>
                </a:cubicBezTo>
                <a:cubicBezTo>
                  <a:pt x="431" y="165"/>
                  <a:pt x="439" y="176"/>
                  <a:pt x="439" y="188"/>
                </a:cubicBezTo>
                <a:cubicBezTo>
                  <a:pt x="439" y="224"/>
                  <a:pt x="448" y="266"/>
                  <a:pt x="427" y="294"/>
                </a:cubicBezTo>
                <a:cubicBezTo>
                  <a:pt x="402" y="327"/>
                  <a:pt x="273" y="337"/>
                  <a:pt x="239" y="341"/>
                </a:cubicBezTo>
                <a:cubicBezTo>
                  <a:pt x="223" y="337"/>
                  <a:pt x="205" y="339"/>
                  <a:pt x="192" y="329"/>
                </a:cubicBezTo>
                <a:cubicBezTo>
                  <a:pt x="182" y="321"/>
                  <a:pt x="180" y="306"/>
                  <a:pt x="180" y="294"/>
                </a:cubicBezTo>
                <a:cubicBezTo>
                  <a:pt x="180" y="167"/>
                  <a:pt x="179" y="180"/>
                  <a:pt x="204" y="106"/>
                </a:cubicBezTo>
                <a:cubicBezTo>
                  <a:pt x="144" y="65"/>
                  <a:pt x="82" y="83"/>
                  <a:pt x="16" y="106"/>
                </a:cubicBezTo>
                <a:cubicBezTo>
                  <a:pt x="12" y="118"/>
                  <a:pt x="0" y="130"/>
                  <a:pt x="4" y="141"/>
                </a:cubicBezTo>
                <a:cubicBezTo>
                  <a:pt x="21" y="184"/>
                  <a:pt x="215" y="188"/>
                  <a:pt x="216" y="188"/>
                </a:cubicBezTo>
                <a:cubicBezTo>
                  <a:pt x="220" y="172"/>
                  <a:pt x="227" y="157"/>
                  <a:pt x="227" y="141"/>
                </a:cubicBezTo>
                <a:cubicBezTo>
                  <a:pt x="227" y="77"/>
                  <a:pt x="190" y="103"/>
                  <a:pt x="251" y="82"/>
                </a:cubicBezTo>
                <a:cubicBezTo>
                  <a:pt x="259" y="70"/>
                  <a:pt x="272" y="61"/>
                  <a:pt x="274" y="47"/>
                </a:cubicBezTo>
                <a:cubicBezTo>
                  <a:pt x="282" y="1"/>
                  <a:pt x="233" y="0"/>
                  <a:pt x="204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iral Reproduction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5. 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Rele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st cell membrane breaks d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ruses are relea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33720" y="3224160"/>
            <a:ext cx="5943600" cy="27860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066680" y="4952880"/>
            <a:ext cx="1752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Book Antiqua"/>
              </a:rPr>
              <a:t>LYTIC CYC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iral Reproduction</a:t>
            </a:r>
            <a:br>
              <a:rPr sz="4400"/>
            </a:b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Rele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veloped viruses move through cell membrane, taking some of the cell’s membrane with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14400" y="3733920"/>
            <a:ext cx="7315200" cy="26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jor viral disease treatment factoids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viral disease has ever been CURED by medical treatment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ruses are not susceptible to ANTIBIOTICS. If a doctor tells you he/she is treating your VIRUS INFECTION with an antibiotic, he/she is either stupid or lying and you should seek more competent medical advi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ost effective tool is prevention (immunizati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rst Vacc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105520" y="1295280"/>
            <a:ext cx="4038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 14th May 1796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dward Jenn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used cowpox-infected material obtained from the hand of Sarah Nemes, a milkmaid from his home village of Berkley in Gloucestershire to successfully vaccinate 8 year old James Phipps. On 1st July 1796, Jenner challenged the boy by deliberately inoculating him with material from a real case of smallpox !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5029200" cy="40399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8600" y="5715000"/>
            <a:ext cx="50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He did not become infected 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re viruses alive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914400"/>
            <a:ext cx="716256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85840" y="4266720"/>
            <a:ext cx="51814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irus Characteristics continu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Viruses are considered </a:t>
            </a:r>
            <a:r>
              <a:rPr b="0" lang="en-US" sz="4000" spc="-1" strike="noStrike" u="sng">
                <a:solidFill>
                  <a:srgbClr val="00ffff"/>
                </a:solidFill>
                <a:uFillTx/>
                <a:latin typeface="Times New Roman"/>
              </a:rPr>
              <a:t>nonliv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ome, but not all characteristics of lif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iral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1920" y="3809880"/>
            <a:ext cx="89917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viruses have two pa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nucleic acid cor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protein coat called a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apsi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752480" y="990720"/>
            <a:ext cx="5029200" cy="26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ts of a generic viru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971800" y="1676520"/>
            <a:ext cx="3251160" cy="44956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09480" y="24382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acterioph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iral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41911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nvelo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ruses without an envelope are known as naked viru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05120" y="990720"/>
            <a:ext cx="495288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80880" y="6095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extra structures does this hav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rcRect l="0" t="53552" r="0" b="0"/>
          <a:stretch/>
        </p:blipFill>
        <p:spPr>
          <a:xfrm>
            <a:off x="0" y="0"/>
            <a:ext cx="8839080" cy="57913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4571640" y="228240"/>
            <a:ext cx="42670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rus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Flu Virus"/>
          <p:cNvPicPr/>
          <p:nvPr/>
        </p:nvPicPr>
        <p:blipFill>
          <a:blip r:embed="rId1"/>
          <a:srcRect l="0" t="0" r="0" b="6002"/>
          <a:stretch/>
        </p:blipFill>
        <p:spPr>
          <a:xfrm>
            <a:off x="4267080" y="2971800"/>
            <a:ext cx="2962440" cy="35812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iral Classific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419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By the type of nucleic ac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By what type of outer covering they ha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248520" y="477720"/>
            <a:ext cx="2819160" cy="25606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rcRect l="0" t="60494" r="47148" b="0"/>
          <a:stretch/>
        </p:blipFill>
        <p:spPr>
          <a:xfrm>
            <a:off x="217440" y="4952880"/>
            <a:ext cx="18064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7T15:49:18Z</dcterms:created>
  <dc:creator>Alain Milotti</dc:creator>
  <dc:description/>
  <dc:language>en-US</dc:language>
  <cp:lastModifiedBy>Tricia</cp:lastModifiedBy>
  <dcterms:modified xsi:type="dcterms:W3CDTF">2007-05-03T13:15:47Z</dcterms:modified>
  <cp:revision>45</cp:revision>
  <dc:subject/>
  <dc:title>Viruses</dc:title>
</cp:coreProperties>
</file>